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6F54-463C-4E8F-BB14-9E373A8A2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280E-DA4D-4D91-B84C-CED756CF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EF76-DD42-4D46-A92E-675714E3C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1ADE-4CB7-4469-B511-36E2DC4E3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C7BF-0E17-4ED0-AB49-99F1B058E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1B79-183D-404E-832E-647DC892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6CEB-9010-491A-B769-2985C965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F105-19BE-434B-A3A3-88DB4D92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A26A-930A-4666-83EB-D1FFE3EC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D50E-7E27-4CB2-AA58-B706502E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328B-423B-4675-9E49-70136B2F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BCF2-01D3-455A-823C-B2E3B983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8B21-B29A-48D6-9465-0BF82253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8912-97FF-4D83-9400-57286567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28C3-E6C9-4599-9655-D45188DD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7F142-AADD-4864-83CE-F388375C7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126D-DBCE-46FE-9D19-623EC564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CA4F-BC22-4C42-AFCC-B9CA7ED0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3B73-5B4F-4061-8FCA-ED43756A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4141-345D-42D8-BF61-75AB4FB8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678E-E828-4DE3-BEF3-46474BA3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8076-8E5F-4F42-B250-A422B3C3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9D8D-E326-4180-9BC7-B7DEF7B6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EE82-37B6-4A3C-A357-A1AB4C72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F767-1C4B-4CCF-B4A7-D3A7387477B0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3DC8-2BD0-4774-99D4-B5B08F08979A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338640" y="8064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0066"/>
                </a:solidFill>
                <a:uFillTx/>
                <a:latin typeface="Times New Roman"/>
              </a:rPr>
              <a:t>Setting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09000" y="2228760"/>
            <a:ext cx="573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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Images in the story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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Details written in the story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5920" y="4495680"/>
            <a:ext cx="857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Where does Charlotte’s Web take place?  SuperFudge?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9920" y="5181480"/>
            <a:ext cx="506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When does the story take place?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84720" y="1184400"/>
            <a:ext cx="713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Sarah came in the spring.  She came through green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rass fields that bloomed with Indian paintbrush, red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and orange, and blue-eye grass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5029200"/>
            <a:ext cx="531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Which words tell us about the setting? 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0" y="3200400"/>
            <a:ext cx="728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Sarah sang us a song we had never heard before as w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sat on the porch, insects buzzing in the dark, the rustl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of cows in the grasses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034000" y="1085760"/>
            <a:ext cx="6598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The written description of a setting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hould appeal to one or more of your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five senses.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13880" y="3067200"/>
            <a:ext cx="1288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Touch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Tast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mel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ound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igh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122560" y="1216080"/>
            <a:ext cx="6615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Could the story </a:t>
            </a:r>
            <a:r>
              <a:rPr b="1" lang="en-US" sz="4000" spc="-1" strike="noStrike" u="sng">
                <a:solidFill>
                  <a:srgbClr val="660066"/>
                </a:solidFill>
                <a:uFillTx/>
                <a:latin typeface="Times New Roman"/>
              </a:rPr>
              <a:t>Charlotte’s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0066"/>
                </a:solidFill>
                <a:uFillTx/>
                <a:latin typeface="Times New Roman"/>
              </a:rPr>
              <a:t>Web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 have taken place at the 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beach?  Why or why not?  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The setting of a story is some-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times so important that the 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story couldn’t be told 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without it!  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120040" y="1063800"/>
            <a:ext cx="50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Here’s your challenge!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3280" y="2209680"/>
            <a:ext cx="7470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Think about the book you are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now reading for AR.  What is 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the setting in your book.  Try 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to think of the senses the author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used to help you visualize the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setting of the book.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1T09:31:34Z</dcterms:created>
  <dc:creator>User</dc:creator>
  <dc:description/>
  <dc:language>en-US</dc:language>
  <cp:lastModifiedBy>Rutherford County Schools</cp:lastModifiedBy>
  <dcterms:modified xsi:type="dcterms:W3CDTF">2007-04-21T15:54:35Z</dcterms:modified>
  <cp:revision>2</cp:revision>
  <dc:subject/>
  <dc:title>No Slide Title</dc:title>
</cp:coreProperties>
</file>